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7D88-A85D-4A07-9781-EAD3A66F43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F8C-6BA6-4E89-B4F4-E7BAA9E1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F41-0EAA-4419-9F09-BA0016D2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0CA-1D6B-42DF-A1A8-21915605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406-EA1B-40F0-B729-6A8122F3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B8A-0CC5-4932-A0A3-2C0321D9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564-04EA-4FC5-9758-9DB55DF1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3B5-5E69-4462-AB3B-769EB51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6E9-1A8D-42CA-936B-90D0B1EC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C61-2F01-4BCE-818B-01A42BA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88A-35D1-474A-B361-6F4B2476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052-7319-4277-8C52-081BE422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1CB-14E9-4761-854A-A1986886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7725-6568-4958-9FCB-98BBEED81B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Ways of the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Brief Global Hi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1148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 and Fall of Worl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6431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904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W. Str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p 22-3 (inset)"/>
          <p:cNvPicPr/>
          <p:nvPr/>
        </p:nvPicPr>
        <p:blipFill>
          <a:blip r:embed="rId1"/>
          <a:stretch/>
        </p:blipFill>
        <p:spPr>
          <a:xfrm>
            <a:off x="1663560" y="165240"/>
            <a:ext cx="5819760" cy="6532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p 22-3"/>
          <p:cNvPicPr/>
          <p:nvPr/>
        </p:nvPicPr>
        <p:blipFill>
          <a:blip r:embed="rId1"/>
          <a:stretch/>
        </p:blipFill>
        <p:spPr>
          <a:xfrm>
            <a:off x="304920" y="457200"/>
            <a:ext cx="8531280" cy="594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22-4"/>
          <p:cNvPicPr/>
          <p:nvPr/>
        </p:nvPicPr>
        <p:blipFill>
          <a:blip r:embed="rId1"/>
          <a:stretch/>
        </p:blipFill>
        <p:spPr>
          <a:xfrm>
            <a:off x="304920" y="507960"/>
            <a:ext cx="8531280" cy="5856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, p658"/>
          <p:cNvPicPr/>
          <p:nvPr/>
        </p:nvPicPr>
        <p:blipFill>
          <a:blip r:embed="rId1"/>
          <a:stretch/>
        </p:blipFill>
        <p:spPr>
          <a:xfrm>
            <a:off x="2082960" y="165240"/>
            <a:ext cx="4971960" cy="65325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, p665"/>
          <p:cNvPicPr/>
          <p:nvPr/>
        </p:nvPicPr>
        <p:blipFill>
          <a:blip r:embed="rId1"/>
          <a:stretch/>
        </p:blipFill>
        <p:spPr>
          <a:xfrm>
            <a:off x="368280" y="165240"/>
            <a:ext cx="8404200" cy="6532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, p669"/>
          <p:cNvPicPr/>
          <p:nvPr/>
        </p:nvPicPr>
        <p:blipFill>
          <a:blip r:embed="rId1"/>
          <a:stretch/>
        </p:blipFill>
        <p:spPr>
          <a:xfrm>
            <a:off x="2425680" y="165240"/>
            <a:ext cx="4291200" cy="6532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, p673"/>
          <p:cNvPicPr/>
          <p:nvPr/>
        </p:nvPicPr>
        <p:blipFill>
          <a:blip r:embed="rId1"/>
          <a:stretch/>
        </p:blipFill>
        <p:spPr>
          <a:xfrm>
            <a:off x="2565360" y="165240"/>
            <a:ext cx="4022640" cy="65325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age, p677"/>
          <p:cNvPicPr/>
          <p:nvPr/>
        </p:nvPicPr>
        <p:blipFill>
          <a:blip r:embed="rId1"/>
          <a:stretch/>
        </p:blipFill>
        <p:spPr>
          <a:xfrm>
            <a:off x="304920" y="431640"/>
            <a:ext cx="8531280" cy="6002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, p680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22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, p683"/>
          <p:cNvPicPr/>
          <p:nvPr/>
        </p:nvPicPr>
        <p:blipFill>
          <a:blip r:embed="rId1"/>
          <a:stretch/>
        </p:blipFill>
        <p:spPr>
          <a:xfrm>
            <a:off x="304920" y="368280"/>
            <a:ext cx="8531280" cy="61308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Pat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: Revolution in a Sing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 Prolonged Revolutionary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Socialism in Tw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sm in the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m and Industr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for En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 versus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lobal Divide and a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Conflict and the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tandoff and Third World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States: Superpower of the West, 1945–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World, 1950s–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End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bandoning Communism and Maintaining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viet Union: The Collapse of Communism an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World Communism, 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1 Russia in 1917 (p. 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2 The Rise of Communism in China (p. 6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3 The Global Cold War (p. 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4 The Collapse of the Soviet Empire (p. 6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in (p. 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 Zedong and the Long March (p. 6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ing Women for Communism (p. 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Manpower for Machinery (p. 6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drogen Bomb (p. 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echoslovakia, 1968 (p. 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munism in China (p. 6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p 22-1"/>
          <p:cNvPicPr/>
          <p:nvPr/>
        </p:nvPicPr>
        <p:blipFill>
          <a:blip r:embed="rId1"/>
          <a:stretch/>
        </p:blipFill>
        <p:spPr>
          <a:xfrm>
            <a:off x="304920" y="279360"/>
            <a:ext cx="8531280" cy="6313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 22-2"/>
          <p:cNvPicPr/>
          <p:nvPr/>
        </p:nvPicPr>
        <p:blipFill>
          <a:blip r:embed="rId1"/>
          <a:stretch/>
        </p:blipFill>
        <p:spPr>
          <a:xfrm>
            <a:off x="1434960" y="165240"/>
            <a:ext cx="6283440" cy="6532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Robert W. Strayer</dc:creator>
  <dc:description/>
  <dc:language>en-US</dc:language>
  <cp:lastModifiedBy>Legion</cp:lastModifiedBy>
  <dcterms:modified xsi:type="dcterms:W3CDTF">2017-07-05T12:45:24Z</dcterms:modified>
  <cp:revision>79</cp:revision>
  <dc:subject/>
  <dc:title>Ways of the World</dc:title>
</cp:coreProperties>
</file>